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26586"/>
        <c:axId val="30689259"/>
      </c:barChart>
      <c:catAx>
        <c:axId val="99026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89259"/>
        <c:crosses val="autoZero"/>
        <c:auto val="1"/>
        <c:lblAlgn val="ctr"/>
        <c:lblOffset val="100"/>
        <c:noMultiLvlLbl val="0"/>
      </c:catAx>
      <c:valAx>
        <c:axId val="30689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26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BAAF-D65B-42F8-9BA8-F62A222B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034-4C88-44F0-A968-F496B642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DF5D-9E96-47AD-8968-682BD599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4E5-45AE-45B0-9F2A-440F845D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33B-0205-47DC-9B62-F98F44A6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803-9233-4710-9B2A-08AB824F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9BF-BE2C-4260-BF50-D5F08E0F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E48E-DB66-445B-A47E-6E9E3508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CB4-D174-4FFF-9AD8-7F735C67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482-165C-4867-BB40-B104BCF7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111-DB48-4474-9F79-1BA863B3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957-649A-422C-9ED5-34401130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8B53A-1C29-4197-944A-CD03F6DA2C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