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98872"/>
        <c:axId val="9358269"/>
      </c:barChart>
      <c:catAx>
        <c:axId val="66698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8269"/>
        <c:crosses val="autoZero"/>
        <c:auto val="1"/>
        <c:lblAlgn val="ctr"/>
        <c:lblOffset val="100"/>
        <c:noMultiLvlLbl val="0"/>
      </c:catAx>
      <c:valAx>
        <c:axId val="9358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98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C25-2245-4016-A5E4-662C53FC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FBA-1A2A-4BAE-80FA-6768346D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9B3-30C9-4417-BC40-AD1910AB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A68-DB29-4071-9EAA-B19AD861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525-3302-4C44-928E-317ED9E3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F61-3979-43D0-B1D7-EB4F493C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774-37C4-409A-B081-C90311B5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C4A-C539-4739-8EDB-569D79E4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76E-5431-463C-B0AF-85519813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373-EBCE-457F-AED8-10F44CA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941-03AF-41A7-A30C-2FBFA05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1EB-ADC1-4B42-B18E-927EC2AB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66A1A-10CF-4CA9-B74E-72022B5347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