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96557"/>
        <c:axId val="59301019"/>
      </c:barChart>
      <c:catAx>
        <c:axId val="73696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01019"/>
        <c:crosses val="autoZero"/>
        <c:auto val="1"/>
        <c:lblAlgn val="ctr"/>
        <c:lblOffset val="100"/>
        <c:noMultiLvlLbl val="0"/>
      </c:catAx>
      <c:valAx>
        <c:axId val="59301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96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09D-DB10-4191-A1C8-41B83B3E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B17-EE60-430B-922B-D1C799B7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47C-A926-4280-B3CB-E2C21FF3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A0A-3A54-4FDD-9CD4-D07F492C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8DB-FA43-4EAF-B78B-3D66EADE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AE2-3CB4-4120-B340-D84FD0B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8D5-CA98-4B21-9328-FB9E36F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66B-722A-4AE1-A6CF-A665C8C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877-279A-459A-B132-148E162A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413-3AA7-426E-97FC-7C194D3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A1C-3E9E-44FE-BCB8-75B80F9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D0F-696A-402A-BC56-58CCEF1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817B6-11F9-4DC5-8F5A-AFD3BABC54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